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jpeg" ContentType="image/jpeg"/>
  <Override PartName="/ppt/media/image7.wmf" ContentType="image/x-wmf"/>
  <Override PartName="/ppt/media/image6.jpeg" ContentType="image/jpeg"/>
  <Override PartName="/ppt/media/glass.wav" ContentType="audio/x-wav"/>
  <Override PartName="/ppt/media/applause.wav" ContentType="audio/x-wav"/>
  <Override PartName="/ppt/media/chimes.wav" ContentType="audio/x-wav"/>
  <Override PartName="/ppt/media/gunshot.wav" ContentType="audio/x-wav"/>
  <Override PartName="/ppt/media/image4.jpeg" ContentType="image/jpeg"/>
  <Override PartName="/ppt/media/image2.png" ContentType="image/png"/>
  <Override PartName="/ppt/media/image10.wmf" ContentType="image/x-wmf"/>
  <Override PartName="/ppt/media/cashreg.wav" ContentType="audio/x-wav"/>
  <Override PartName="/ppt/media/image8.wmf" ContentType="image/x-wmf"/>
  <Override PartName="/ppt/media/image12.jpeg" ContentType="image/jpeg"/>
  <Override PartName="/ppt/media/image16.gif" ContentType="image/gif"/>
  <Override PartName="/ppt/media/whoosh.wav" ContentType="audio/x-wav"/>
  <Override PartName="/ppt/media/image15.jpeg" ContentType="image/jpeg"/>
  <Override PartName="/ppt/media/type.wav" ContentType="audio/x-wav"/>
  <Override PartName="/ppt/media/image13.jpeg" ContentType="image/jpeg"/>
  <Override PartName="/ppt/media/laser.wav" ContentType="audio/x-wav"/>
  <Override PartName="/ppt/media/image11.jpeg" ContentType="image/jpeg"/>
  <Override PartName="/ppt/media/camera.wav" ContentType="audio/x-wav"/>
  <Override PartName="/ppt/media/image9.wmf" ContentType="image/x-wmf"/>
  <Override PartName="/ppt/media/image1.jpeg" ContentType="image/jpeg"/>
  <Override PartName="/ppt/media/image3.jpeg" ContentType="image/jpeg"/>
  <Override PartName="/ppt/media/image14.jpeg" ContentType="image/jpeg"/>
  <Override PartName="/ppt/media/carbrak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A40-E6DE-4B13-A5EC-5265535A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BDA-FB24-46CB-9DAF-4E07E782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D9D-8C9E-423F-823F-637CCBEF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311-D7C2-4173-9465-CE86AFB7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F986-AC64-4703-AC56-D8A1B926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3567-B6B3-4E29-A81A-B92D8212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2643-B5FF-4C6A-8358-35E522A9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F862-D10A-447F-9404-D0EF7BBF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9833-AD6B-450B-BC83-A097FF72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B809-E5DA-491A-AE10-3CD7359A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95AF-136B-42B1-A5AE-B81F2DC1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B9E-DDF0-4398-9237-93C4CDAD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7978-B8AD-41D3-B003-42B1A2E6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F20E-C435-4217-BCDD-B26DA26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049C-1DDD-44CB-8C6C-AB3FBDAE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92CB-6BFA-4089-930F-74A854D3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ECDC-34F2-4C63-8AEB-330017F8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1D0-6382-4E42-A040-5BC98B5B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208-5DC2-45D8-8C7D-83F45128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C30-4B51-4785-9AFB-38466AA5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914-D047-41F3-8789-6EA91B12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722-835F-47DB-9328-7C184A2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4F0-17AF-40F4-9812-B55C5AB6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AEA-36B5-40AF-82C0-C9B6925F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9ABE-32CC-4CA6-ABB4-51AF07519B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27FF-217A-4A16-93B2-263E602DD0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0B25-2E59-4911-8651-4F5B421657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28BD-6FCC-47F3-BE70-4532421B0F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audio" Target="../media/whoosh.wav"/><Relationship Id="rId6" Type="http://schemas.openxmlformats.org/officeDocument/2006/relationships/audio" Target="../media/glass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120120" y="12952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9900"/>
                </a:solidFill>
                <a:latin typeface="Times New Roman"/>
                <a:ea typeface="隶书"/>
              </a:rPr>
              <a:t>欢迎光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1360" y="5300640"/>
            <a:ext cx="17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昆明滇池中学初一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）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77240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171-5112-4A17-9B8C-558899EDADC2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ED7D2-16A3-4B92-AC1A-6751840392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271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034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09640" y="290520"/>
            <a:ext cx="48592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牢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校风：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文明    求实   勤学   进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学风：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礼貌   求实    勤思   奋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36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640" y="3809880"/>
            <a:ext cx="7848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树立意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我为滇中争光荣  滇中光荣我光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158-0178-41F8-9446-65A152A0A1E9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9E27C-4C7C-4D8A-BBDD-4D8FF6BCE2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班主任总结发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280" y="4648320"/>
            <a:ext cx="679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总之：勿以恶小而为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勿以善小而不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0400" y="47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1880" y="1085760"/>
            <a:ext cx="6439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最重要的是两种行为习惯不能养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即妨碍他人的行为习惯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            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没有行为习惯的行为习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0B0-A9A2-4732-8F7D-AE1DE898AE6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716C0-2633-4B52-B725-AB5EE13874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989840" y="457200"/>
            <a:ext cx="5493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89840" y="411120"/>
            <a:ext cx="54936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98200" y="-2348640"/>
            <a:ext cx="1642680" cy="11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天高任鸟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海阔凭鱼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808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55B-F10F-49F0-9E29-7AD32141F8F6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76683-EA4C-4758-A28E-B2DA71B6C9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828800" y="1752480"/>
            <a:ext cx="6400800" cy="24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谢谢指导！</a:t>
            </a:r>
            <a:endParaRPr b="1" lang="en-US" sz="6000" spc="1" strike="noStrike">
              <a:ln w="9360">
                <a:solidFill>
                  <a:srgbClr val="6600cc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804000" y="5562720"/>
            <a:ext cx="1871640" cy="12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958-E675-4798-A01C-B8355F8F3F65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F6B0F-2200-4739-A107-9850F3D952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66"/>
                </a:solidFill>
                <a:latin typeface="方正舒体"/>
                <a:ea typeface="隶书"/>
              </a:rPr>
              <a:t>与不良的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42667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ff"/>
                </a:solidFill>
                <a:latin typeface="宋体"/>
              </a:rPr>
              <a:t>      ——</a:t>
            </a:r>
            <a:r>
              <a:rPr b="1" i="1" lang="zh-CN" sz="4000" spc="-1" strike="noStrike">
                <a:solidFill>
                  <a:srgbClr val="ff00ff"/>
                </a:solidFill>
                <a:latin typeface="宋体"/>
              </a:rPr>
              <a:t>做一名合格的初一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057400"/>
            <a:ext cx="56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66"/>
                </a:solidFill>
                <a:latin typeface="方正舒体"/>
                <a:ea typeface="隶书"/>
              </a:rPr>
              <a:t>行为习惯告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A956-3E6F-4033-BBDE-69F2D99AB4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3E1AAE9-55AC-4A9E-BF73-C74E25E0FA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27080" y="227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25640" y="1395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什么是不良行为习惯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657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对自己和他人的身心有害，不利于自己和他人的身心健康；妨碍他人；影响自己和他人成长；不雅，有碍观瞻等等一些行为习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118-8814-4379-A394-01A557CD276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1F849-B6A8-4422-BD56-D8721FA09A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9900"/>
                </a:solidFill>
                <a:latin typeface="Times New Roman"/>
              </a:rPr>
              <a:t>中学生常见的不良行为习惯有哪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883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66"/>
                </a:solidFill>
                <a:latin typeface="Times New Roman"/>
              </a:rPr>
              <a:t>就校内生活而言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课堂上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东张西望，精神不集中；不动手，不动脑，呆若木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不专心听讲，讲小话；老师或同学发言时，插嘴打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做跟课堂无关的事，涂鸦、写信、写字条，传送字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吃东西，喝水；跟同桌或前后左右桌的同学嬉戏玩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不做练习，不积极发言；不记笔记，不懂的知识不记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    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5720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课间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追逐打闹，大声喧哗，乱丢果皮纸屑，还有那令人厌恶的泡泡糖屑；说脏话，使用不文明语言；接水时，东张西望，水流得一地都是；用粉笔头掷人；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72E-580F-415A-912A-32B93315CB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0B7FF-F1A6-410C-99D8-744A8D921A2C}" type="datetime1">
              <a:rPr lang="en-US"/>
              <a:t>07/29/2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70360" y="-50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就校外生活而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996840"/>
            <a:ext cx="6629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按时回家， 上学、放学路上追逐打闹；不遵守交通法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乘坐公交车不尊老爱幼，主动让座；不文明语言出口成“脏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抽烟、酗酒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打架斗殴；不遵守法令条规，进营业性舞厅、歌厅、网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回到家中，摆少爷、小姐脾气，不知老、不知幼，惟我独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书从来不看，字从来不写，父母的教诲——“最近 有点烦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E8A-54CA-4341-9F66-DFC0EE7FF3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6B194-C0EB-4CB5-8DAC-97EF47BC94EE}" type="datetime1">
              <a:rPr lang="en-US"/>
              <a:t>07/29/26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宋体"/>
              </a:rPr>
              <a:t>童年的生活是美好的。然而，就是在这美好的生活中，由于我们的不注意：父母的娇纵、溺爱，自己对自己的放松、宽恕，同学之间潜移默化的影响，我们每位同学，都或多或少养成了一些不良的行为习惯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我们都有哪些不良的行为习惯呢？如何纠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  <a:ea typeface="宋体"/>
              </a:rPr>
              <a:t>审视自己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DFE-931B-493F-9833-524347AEF5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E1E22-F961-46AC-8E68-3253E592DE4F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现实生活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276720" cy="2590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87200" y="3040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922480" cy="213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54760" y="5181480"/>
            <a:ext cx="1155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095880" y="1600200"/>
            <a:ext cx="2743200" cy="1920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86040" y="1447560"/>
            <a:ext cx="3352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协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181480" y="373392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77960" y="4191120"/>
            <a:ext cx="7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方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A17-F1C3-4D08-821E-2CF405E136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1E5CE-004E-4AEA-B218-381D931E5B89}" type="datetime1">
              <a:rPr lang="en-US"/>
              <a:t>07/29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6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90720" y="25909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贝多芬在失去听觉的情况下，仍然不停止工作，与命运抗争，我们的不良行为习惯难道就纠正不了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名人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6CB-8B00-42C2-A23D-ECD14B2CDD5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B8E97-F7BD-474B-8846-B371000590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66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0400" y="380880"/>
            <a:ext cx="745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出淤泥而不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濯清涟而不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2240" y="453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04B-430C-4F21-9516-2DB9F968BE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8442A-9668-4FB5-B83E-60D7FDCCAB7F}" type="datetime1">
              <a:rPr lang="en-US"/>
              <a:t>07/29/2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54:47Z</dcterms:modified>
  <cp:revision>32</cp:revision>
  <dc:subject>主题班会课件(分28大类): http://shop62905894.taobao.com</dc:subject>
  <dc:title>主题班会课件(分28大类): http://shop62905894.taobao.com</dc:title>
</cp:coreProperties>
</file>